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87C82D-81A4-4665-A3D7-3E971644F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7498B0-E831-488D-99F4-F74132B72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D3C17C-09C3-450E-985A-1EBF4EA9C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D6702-34F4-4D95-A67B-5D1172601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75B97-1F9E-4600-A747-4C3466CEE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C0A60-136D-4AAD-A318-9A1EC6B44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DB749-9F03-4B30-BE5C-17FCF9FB6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36F9B-7C59-489C-8B44-0DBD46E1C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0819A-1597-44A2-8877-8E81DD5BE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F1CC3-8906-40E8-B3A0-83F92BBB1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64AAF-6749-4AFB-9F68-E51CBC3A1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073383-B1A9-4FBC-BABD-2A9FD240A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84964-3ED6-4FD2-984C-CD794051C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75B3C-937A-4DDA-B243-C2A2DD3D2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BB406-03B6-43E3-9203-574CB2D86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0CC69-ACF3-47AF-99CE-5FB08B7F1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2D7F7-925A-43EB-B347-4B4856ABC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3F3D1D-9C8D-4420-9509-178AAB2EB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4F5F29-5A3F-47FC-927A-A37692F45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498FA1-82B2-46CD-84CF-996C76A00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1A9E64-6CD4-4CAB-80D9-03235A8D6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211F74-4AC3-4751-9C23-4BEA84A3D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32CDC4-26F5-46E9-B2DF-5617FCD24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C31FC3-5D92-4251-B778-581DF451D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8009E-48C5-4D8D-A012-439DFE6766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666699"/>
                  </a:gs>
                  <a:gs pos="100000">
                    <a:srgbClr val="5d5d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666699"/>
                  </a:gs>
                  <a:gs pos="100000">
                    <a:srgbClr val="5d5d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54547d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5a5a86"/>
                  </a:gs>
                  <a:gs pos="100000">
                    <a:srgbClr val="6666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3e3e5c"/>
                </a:gs>
                <a:gs pos="100000">
                  <a:srgbClr val="66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fdfe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666699"/>
                  </a:gs>
                  <a:gs pos="100000">
                    <a:srgbClr val="5d5d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666699"/>
                  </a:gs>
                  <a:gs pos="100000">
                    <a:srgbClr val="5d5d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54547d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5a5a86"/>
                  </a:gs>
                  <a:gs pos="100000">
                    <a:srgbClr val="6666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3e3e5c"/>
                </a:gs>
                <a:gs pos="100000">
                  <a:srgbClr val="66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fdfe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526A1-A239-4935-83D4-B50381C55DD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Commonly Confused Words</a:t>
            </a:r>
            <a:endParaRPr b="1" lang="en-US" sz="6000" spc="-1" strike="noStrike">
              <a:solidFill>
                <a:srgbClr val="dfdfe9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. Choose the correctly worded sentence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The school will except all students, accept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those who clearly don’t want to attend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B) The school will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Garamond"/>
              </a:rPr>
              <a:t>accept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 all students, 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Garamond"/>
              </a:rPr>
              <a:t>except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 those who clearly don’t want 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to attend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5. Choose the correctly worded sentence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The side effects of that medication may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ffect your ability to drive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The side affects of that medication may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effect your ability to drive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5. Choose the correctly worded sentence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A) The side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Garamond"/>
              </a:rPr>
              <a:t>effects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 of that medication 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may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Garamond"/>
              </a:rPr>
              <a:t>affect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 your ability to drive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The side affects of that medication may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effect your ability to drive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6. Choose the correctly worded sentence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Are the Griffins coming to our party?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Are the Griffins coming to are party?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6. Choose the correctly worded sentence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A)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Garamond"/>
              </a:rPr>
              <a:t>Are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 the Griffins coming to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Garamond"/>
              </a:rPr>
              <a:t>our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 party?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Are the Griffins coming to are party?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7. Choose the correctly worded sentence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I am going to buy every book ever written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y Toni Morrison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I am going to by every book ever written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uy Toni Morrison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none of the above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7. Choose the correctly worded sentence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A) I am going to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Garamond"/>
              </a:rPr>
              <a:t>buy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 every book ever 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written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Garamond"/>
              </a:rPr>
              <a:t>by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 Toni Morrison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I am going to by every book ever written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uy Toni Morrison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none of the above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8. Choose the correctly worded sentence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When the thief became conscious the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next morning, his conscience began to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nag him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When the thief became conscious the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next morning, his conscious began to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nag him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8. Choose the correctly worded sentence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A) When the thief became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Garamond"/>
              </a:rPr>
              <a:t>conscious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 the 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next morning, his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Garamond"/>
              </a:rPr>
              <a:t>conscience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 began 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to nag him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When the thief became conscious the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next morning, his conscious began to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nag him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9. Choose the correctly worded sentence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I need to fine my glasses so that I can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read the find print on this contract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I need to find my glasses so that I can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read the fine print on this contract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990720"/>
            <a:ext cx="72388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ertain words in English (like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advice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and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advise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) are confusing because they sound alike and may have similar meanings. The more you practice using these words, the more you will understand the differences between them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See your textbook for more details and practices on commonly confused words.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9. Choose the correctly worded sentence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I need to fine my glasses so that I can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read the find print on this contract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B) I need to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Garamond"/>
              </a:rPr>
              <a:t>find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 my glasses so that I can 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read the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Garamond"/>
              </a:rPr>
              <a:t>fine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 print on this contract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0. Choose the correctly worded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entence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I assume that your going to bring you’re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ooks to class tomorrow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I assume that your going to bring your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ooks to class tomorrow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0. Choose the correctly worded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entence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I assume that your going to bring you’re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ooks to class tomorrow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I assume that your going to bring your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ooks to class tomorrow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C) none of the above; the correct wording 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is </a:t>
            </a:r>
            <a:r>
              <a:rPr b="1" i="1" lang="en-US" sz="3600" spc="-1" strike="noStrike">
                <a:solidFill>
                  <a:srgbClr val="ffff00"/>
                </a:solidFill>
                <a:latin typeface="Garamond"/>
              </a:rPr>
              <a:t>I assume that </a:t>
            </a:r>
            <a:r>
              <a:rPr b="1" i="1" lang="en-US" sz="3600" spc="-1" strike="noStrike" u="sng">
                <a:solidFill>
                  <a:srgbClr val="ffff00"/>
                </a:solidFill>
                <a:uFillTx/>
                <a:latin typeface="Garamond"/>
              </a:rPr>
              <a:t>you’re</a:t>
            </a:r>
            <a:r>
              <a:rPr b="1" i="1" lang="en-US" sz="3600" spc="-1" strike="noStrike">
                <a:solidFill>
                  <a:srgbClr val="ffff00"/>
                </a:solidFill>
                <a:latin typeface="Garamond"/>
              </a:rPr>
              <a:t> going to </a:t>
            </a:r>
            <a:r>
              <a:rPr b="1" i="1" lang="en-US" sz="36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i="1" lang="en-US" sz="3600" spc="-1" strike="noStrike">
                <a:solidFill>
                  <a:srgbClr val="ffff00"/>
                </a:solidFill>
                <a:latin typeface="Garamond"/>
              </a:rPr>
              <a:t>bring </a:t>
            </a:r>
            <a:r>
              <a:rPr b="1" i="1" lang="en-US" sz="3600" spc="-1" strike="noStrike" u="sng">
                <a:solidFill>
                  <a:srgbClr val="ffff00"/>
                </a:solidFill>
                <a:uFillTx/>
                <a:latin typeface="Garamond"/>
              </a:rPr>
              <a:t>your</a:t>
            </a:r>
            <a:r>
              <a:rPr b="1" i="1" lang="en-US" sz="3600" spc="-1" strike="noStrike">
                <a:solidFill>
                  <a:srgbClr val="ffff00"/>
                </a:solidFill>
                <a:latin typeface="Garamond"/>
              </a:rPr>
              <a:t> books to class tomorrow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1. Choose the correctly worded sentence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The person whose fingerprints are on the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gun is the person who’s committed the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rime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The person who’s fingerprints are on the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gun is the person whose committed the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rime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1. Choose the correctly worded sentence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A) The person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Garamond"/>
              </a:rPr>
              <a:t>whose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 fingerprints are on 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the gun is the person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Garamond"/>
              </a:rPr>
              <a:t>who’s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committed the crime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The person who’s fingerprints are on the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gun is the person whose committed the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rime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2. Choose the correctly worded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entence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I use to drive a small car, but now I use a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ig van because I have five children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I used to drive a small car, but now I use a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ig van because I have five children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2. Choose the correctly worded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entence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I use to drive a small car, but now I use a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ig van because I have five children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B) I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Garamond"/>
              </a:rPr>
              <a:t>used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 to drive a small car, but now I 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Garamond"/>
              </a:rPr>
              <a:t>use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 a big van because I have five 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children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3. Choose the correctly worded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entence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I knew that you would like the new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teacher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I new that you would like the new teacher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3. Choose the correctly worded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entence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A) I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Garamond"/>
              </a:rPr>
              <a:t>knew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 that you would like the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Garamond"/>
              </a:rPr>
              <a:t>new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teacher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I new that you would like the new teacher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4. Choose the correctly worded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entence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You know that your team has no chance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of winning this game, right?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You no that your team has know chance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of winning this game, right?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152280"/>
            <a:ext cx="82296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hoose the correctly worded sentenc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I advise you to take my advic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I advice you to take my advis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4. Choose the correctly worded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entence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A) You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Garamond"/>
              </a:rPr>
              <a:t>know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 that your team has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Garamond"/>
              </a:rPr>
              <a:t>no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chance of winning this game, right?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You no that your team has know chance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of winning this game, right?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5. Choose the correctly worded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entence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If you lose weight, you’ll probably notice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that your pants are getting loose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If you loose weight, you’ll probably notice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that your pants are getting lose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5. Choose the correctly worded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entence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A) If you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Garamond"/>
              </a:rPr>
              <a:t>lose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 weight, you’ll probably 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notice that your pants are getting 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Garamond"/>
              </a:rPr>
              <a:t>loose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If you loose weight, you’ll probably notice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that your pants are getting lose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6. Choose the correctly worded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entence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I don’t mine what you do with your own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money; just leave mine alone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I don’t mind what you do with your own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money; just leave mine alone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6. Choose the correctly worded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entence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I don’t mine what you do with your own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money; just leave mine alone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B) I don’t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Garamond"/>
              </a:rPr>
              <a:t>mind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 what you do with your 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own money; just leave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Garamond"/>
              </a:rPr>
              <a:t>mine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 alone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7. Choose the correctly worded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entence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You could of told me that you have the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flu. 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You could have told me that you have the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flu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7. Choose the correctly worded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entence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You could of told me that you have the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flu. 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B) You could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Garamond"/>
              </a:rPr>
              <a:t>have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 told me that you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Garamond"/>
              </a:rPr>
              <a:t>have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the flu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8. Choose the correctly worded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entence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In the passed, many immigrants to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merica passed through Ellis Island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In the past, many immigrants to America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past through Ellis Island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8. Choose the correctly worded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entence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In the passed, many immigrants to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merica passed through Ellis Island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In the past, many immigrants to America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past through Ellis Island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C) none of the above; the correct wording 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is </a:t>
            </a:r>
            <a:r>
              <a:rPr b="1" i="1" lang="en-US" sz="3600" spc="-1" strike="noStrike">
                <a:solidFill>
                  <a:srgbClr val="ffff00"/>
                </a:solidFill>
                <a:latin typeface="Garamond"/>
              </a:rPr>
              <a:t>In the </a:t>
            </a:r>
            <a:r>
              <a:rPr b="1" i="1" lang="en-US" sz="3600" spc="-1" strike="noStrike" u="sng">
                <a:solidFill>
                  <a:srgbClr val="ffff00"/>
                </a:solidFill>
                <a:uFillTx/>
                <a:latin typeface="Garamond"/>
              </a:rPr>
              <a:t>past</a:t>
            </a:r>
            <a:r>
              <a:rPr b="1" i="1" lang="en-US" sz="3600" spc="-1" strike="noStrike">
                <a:solidFill>
                  <a:srgbClr val="ffff00"/>
                </a:solidFill>
                <a:latin typeface="Garamond"/>
              </a:rPr>
              <a:t>, many immigrants to </a:t>
            </a:r>
            <a:r>
              <a:rPr b="1" i="1" lang="en-US" sz="36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i="1" lang="en-US" sz="3600" spc="-1" strike="noStrike">
                <a:solidFill>
                  <a:srgbClr val="ffff00"/>
                </a:solidFill>
                <a:latin typeface="Garamond"/>
              </a:rPr>
              <a:t>America </a:t>
            </a:r>
            <a:r>
              <a:rPr b="1" i="1" lang="en-US" sz="3600" spc="-1" strike="noStrike" u="sng">
                <a:solidFill>
                  <a:srgbClr val="ffff00"/>
                </a:solidFill>
                <a:uFillTx/>
                <a:latin typeface="Garamond"/>
              </a:rPr>
              <a:t>passed</a:t>
            </a:r>
            <a:r>
              <a:rPr b="1" i="1" lang="en-US" sz="3600" spc="-1" strike="noStrike">
                <a:solidFill>
                  <a:srgbClr val="ffff00"/>
                </a:solidFill>
                <a:latin typeface="Garamond"/>
              </a:rPr>
              <a:t> through Ellis </a:t>
            </a:r>
            <a:r>
              <a:rPr b="1" i="1" lang="en-US" sz="36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i="1" lang="en-US" sz="3600" spc="-1" strike="noStrike">
                <a:solidFill>
                  <a:srgbClr val="ffff00"/>
                </a:solidFill>
                <a:latin typeface="Garamond"/>
              </a:rPr>
              <a:t>Island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9. Choose the correctly worded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entence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A quiet piece of music always makes me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feel at peace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A quiet peace of music always makes me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feel at piece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152280"/>
            <a:ext cx="82296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hoose the correctly worded sentenc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A) I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Garamond"/>
              </a:rPr>
              <a:t>advise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 you to take my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Garamond"/>
              </a:rPr>
              <a:t>advice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I advice you to take my advis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9. Choose the correctly worded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entence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A) A quiet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Garamond"/>
              </a:rPr>
              <a:t>piece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 of music always makes 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me feel at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Garamond"/>
              </a:rPr>
              <a:t>peace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A quiet peace of music always makes me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feel at piece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0. Choose the correctly worded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entence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The principal problem with politics is that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politicians have few real principles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The principle problem with politics is that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politicians have few real principals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0. Choose the correctly worded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entence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A) The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Garamond"/>
              </a:rPr>
              <a:t>principal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 problem with politics is 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that politicians have few real 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Garamond"/>
              </a:rPr>
              <a:t>principles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The principle problem with politics is that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politicians have few real principals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1. Choose the correctly worded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entence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After the band quit playing, the party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ecame very quite and quite boring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After the band quit playing, the party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ecame very quiet and quite boring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1. Choose the correctly worded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entence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After the band quit playing, the party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ecame very quite and quite boring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B) After the band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Garamond"/>
              </a:rPr>
              <a:t>quit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 playing, the party 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became very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Garamond"/>
              </a:rPr>
              <a:t>quiet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 and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Garamond"/>
              </a:rPr>
              <a:t>quite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 boring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2. Choose the correctly worded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entence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To get the right job, you must right a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good résumé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To get the right job, you must write a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good résumé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2. Choose the correctly worded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entence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To get the right job, you must right a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good résumé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B) To get the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Garamond"/>
              </a:rPr>
              <a:t>right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 job, you must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Garamond"/>
              </a:rPr>
              <a:t>write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 a 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good résumé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3. Choose the correctly worded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entence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After a long day, I just want to set my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work aside and sit on a comfortable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ouch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After a long day, I just want to set my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work aside and set on a comfortable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ouch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3. Choose the correctly worded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entence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A) After a long day, I just want to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Garamond"/>
              </a:rPr>
              <a:t>set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 my 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work aside and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Garamond"/>
              </a:rPr>
              <a:t>sit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 on a comfortable 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couch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After a long day, I just want to set my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work aside and set on a comfortable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ouch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4. Choose the correctly worded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entence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I suppose that the door was supposed to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e left open for us, but we’re locked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out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I suppose that the door was suppose to be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left open for us, but we’re locked out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152280"/>
            <a:ext cx="82296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hoose the correctly worded sentenc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Its clear that the company improved its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enefit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Its clear that the company improved it’s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enefit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4. Choose the correctly worded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entence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A) I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Garamond"/>
              </a:rPr>
              <a:t>suppose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 that the door was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Garamond"/>
              </a:rPr>
              <a:t>supposed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to be left open for us, but we’re 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locked out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I suppose that the door was suppose to be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left open for us, but we’re locked out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5. Choose the correctly worded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entence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Chris ate more then any of us; then, he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left the restaurant without a word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Chris ate more than any of us; then, he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left the restaurant without a word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5. Choose the correctly worded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entence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Chris ate more then any of us; then, he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left the restaurant without a word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A) Chris ate more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Garamond"/>
              </a:rPr>
              <a:t>than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 any of us;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Garamond"/>
              </a:rPr>
              <a:t>then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, he 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left the restaurant without a word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6. Choose the correctly worded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entence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There going to park their car over there,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next to the garage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There going to park there car over their,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next to the garage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6. Choose the correctly worded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entence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There going to park their car over there,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next to the garage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There going to park there car over their,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next to the garage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C) none of the above; the correct wording 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is </a:t>
            </a:r>
            <a:r>
              <a:rPr b="1" i="1" lang="en-US" sz="3600" spc="-1" strike="noStrike" u="sng">
                <a:solidFill>
                  <a:srgbClr val="ffff00"/>
                </a:solidFill>
                <a:uFillTx/>
                <a:latin typeface="Garamond"/>
              </a:rPr>
              <a:t>They’re</a:t>
            </a:r>
            <a:r>
              <a:rPr b="1" i="1" lang="en-US" sz="3600" spc="-1" strike="noStrike">
                <a:solidFill>
                  <a:srgbClr val="ffff00"/>
                </a:solidFill>
                <a:latin typeface="Garamond"/>
              </a:rPr>
              <a:t> going to park </a:t>
            </a:r>
            <a:r>
              <a:rPr b="1" i="1" lang="en-US" sz="3600" spc="-1" strike="noStrike" u="sng">
                <a:solidFill>
                  <a:srgbClr val="ffff00"/>
                </a:solidFill>
                <a:uFillTx/>
                <a:latin typeface="Garamond"/>
              </a:rPr>
              <a:t>their</a:t>
            </a:r>
            <a:r>
              <a:rPr b="1" i="1" lang="en-US" sz="3600" spc="-1" strike="noStrike">
                <a:solidFill>
                  <a:srgbClr val="ffff00"/>
                </a:solidFill>
                <a:latin typeface="Garamond"/>
              </a:rPr>
              <a:t> car </a:t>
            </a:r>
            <a:r>
              <a:rPr b="1" i="1" lang="en-US" sz="36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i="1" lang="en-US" sz="3600" spc="-1" strike="noStrike">
                <a:solidFill>
                  <a:srgbClr val="ffff00"/>
                </a:solidFill>
                <a:latin typeface="Garamond"/>
              </a:rPr>
              <a:t>over </a:t>
            </a:r>
            <a:r>
              <a:rPr b="1" i="1" lang="en-US" sz="3600" spc="-1" strike="noStrike" u="sng">
                <a:solidFill>
                  <a:srgbClr val="ffff00"/>
                </a:solidFill>
                <a:uFillTx/>
                <a:latin typeface="Garamond"/>
              </a:rPr>
              <a:t>there</a:t>
            </a:r>
            <a:r>
              <a:rPr b="1" i="1" lang="en-US" sz="3600" spc="-1" strike="noStrike">
                <a:solidFill>
                  <a:srgbClr val="ffff00"/>
                </a:solidFill>
                <a:latin typeface="Garamond"/>
              </a:rPr>
              <a:t>, next to the garage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7. Choose the correctly worded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entence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66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Though the engine was cold, he threw the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ar into gear and drove through the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snow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66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Though the engine was cold, he threw the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ar into gear and drove threw the snow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66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none of the above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7. Choose the correctly worded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entence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66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A)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Garamond"/>
              </a:rPr>
              <a:t>Though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 the engine was cold, he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Garamond"/>
              </a:rPr>
              <a:t>threw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the car into gear and drove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Garamond"/>
              </a:rPr>
              <a:t>through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the snow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66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Though the engine was cold, he threw the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ar into gear and drove threw the snow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66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none of the above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8. Choose the correctly worded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entence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Two big pieces of cake were to much for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me too finish after I ate all that pie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Two big pieces of cake were too much for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me to finish after I ate all that pie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8. Choose the correctly worded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entence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Two big pieces of cake were to much for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me too finish after I ate all that pie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B)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Garamond"/>
              </a:rPr>
              <a:t>Two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 big pieces of cake were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Garamond"/>
              </a:rPr>
              <a:t>too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 much 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for me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Garamond"/>
              </a:rPr>
              <a:t>to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 finish after I ate all that 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pie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152280"/>
            <a:ext cx="82296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hoose the correctly worded sentenc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85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850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850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Its clear that the company improved its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enefit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850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Its clear that the company improved it’s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enefit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850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C) none of the above; the correct wording 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is </a:t>
            </a:r>
            <a:r>
              <a:rPr b="1" i="1" lang="en-US" sz="3600" spc="-1" strike="noStrike" u="sng">
                <a:solidFill>
                  <a:srgbClr val="ffff00"/>
                </a:solidFill>
                <a:uFillTx/>
                <a:latin typeface="Garamond"/>
              </a:rPr>
              <a:t>It’s</a:t>
            </a:r>
            <a:r>
              <a:rPr b="1" i="1" lang="en-US" sz="3600" spc="-1" strike="noStrike">
                <a:solidFill>
                  <a:srgbClr val="ffff00"/>
                </a:solidFill>
                <a:latin typeface="Garamond"/>
              </a:rPr>
              <a:t> clear that the company </a:t>
            </a:r>
            <a:r>
              <a:rPr b="1" i="1" lang="en-US" sz="36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i="1" lang="en-US" sz="3600" spc="-1" strike="noStrike">
                <a:solidFill>
                  <a:srgbClr val="ffff00"/>
                </a:solidFill>
                <a:latin typeface="Garamond"/>
              </a:rPr>
              <a:t>improved </a:t>
            </a:r>
            <a:r>
              <a:rPr b="1" i="1" lang="en-US" sz="3600" spc="-1" strike="noStrike" u="sng">
                <a:solidFill>
                  <a:srgbClr val="ffff00"/>
                </a:solidFill>
                <a:uFillTx/>
                <a:latin typeface="Garamond"/>
              </a:rPr>
              <a:t>its</a:t>
            </a:r>
            <a:r>
              <a:rPr b="1" i="1" lang="en-US" sz="3600" spc="-1" strike="noStrike">
                <a:solidFill>
                  <a:srgbClr val="ffff00"/>
                </a:solidFill>
                <a:latin typeface="Garamond"/>
              </a:rPr>
              <a:t> benefits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. Choose the correctly worded sentence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I have to write a outline an a essay for my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English class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I have to write an outline and an essay for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my English clas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none of the above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. Choose the correctly worded sentence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I have to write a outline an a essay for my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English class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B) I have to write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Garamond"/>
              </a:rPr>
              <a:t>an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 outline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Garamond"/>
              </a:rPr>
              <a:t>and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Garamond"/>
              </a:rPr>
              <a:t>an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 essay 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for my English clas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none of the above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. Choose the correctly worded sentence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The school will except all students, accept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those who clearly don’t want to attend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The school will accept all students, except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those who clearly don’t want to attend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9T16:19:37Z</dcterms:created>
  <dc:creator>BSM</dc:creator>
  <dc:description/>
  <dc:language>en-US</dc:language>
  <cp:lastModifiedBy>BSM</cp:lastModifiedBy>
  <dcterms:modified xsi:type="dcterms:W3CDTF">2008-02-14T19:40:43Z</dcterms:modified>
  <cp:revision>306</cp:revision>
  <dc:subject/>
  <dc:title>Sentence Fragments</dc:title>
</cp:coreProperties>
</file>